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906-C772-457D-8E58-B712C006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C22-8E79-4087-B06B-345153B2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7FB-EBF4-450C-9006-EA242852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773-ECA3-4EEC-B80B-A7092F09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553F-E230-4CEF-87AD-CE3D09BD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2222-9F87-4936-9158-29F37078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04E3-5401-4E8D-AE08-FFD3B4B9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CAD8-6848-4E32-AA46-EFD042EA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BFA2-ADDC-4F53-91BA-C6FEAD0D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034C-8E9A-482A-B380-46F02E3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ADE7-8E82-4AE7-AF86-AB9E382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EFD-ACFC-49F5-BC90-59A21346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DE10-03A2-4F2E-B15E-34BE428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3A63-9CF4-4A09-84C9-F64EEFA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80A0-D114-4832-BC36-9EAC4B18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ED96-B75F-4D43-9442-BC52FDDD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03B0-2B6C-430E-AC09-32AF26CD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BF5-2599-405B-82A9-A0A394E7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CFD-ABC0-46C0-8052-2F005370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3DA-B387-448C-ABC7-1E86A3D6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E1F8-FFBC-4513-98E9-094B2316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EA4-6D6C-4FBA-8C6B-1A15CDA7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8B68-249D-4FB7-B68B-03B9F7AB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4C9E-0A78-4D88-A0A8-E0860D29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771C-D907-4E36-94A0-25532B5734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D76F-E59B-410D-832F-A78ECA679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news.nationalgeographic.com/news/2007/01/images/070124-sharks-weird.jpg&amp;imgrefurl=http://news.nationalgeographic.com/news/2007/01/070124-sharks-photo.html&amp;h=304&amp;w=461&amp;sz=63&amp;hl=en&amp;start=1&amp;tbnid=Of78aObsqh-IZM:&amp;tbnh=84&amp;tbnw=128&amp;prev=/images%3Fq%3Dsharks%26gbv%3D2%26hl%3De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ullacresta.it/squalo/Great%2520White%2520Shark%2520(2).jpg&amp;imgrefurl=http://bwyb.blogspot.com/2004_06_01_archive.html&amp;h=600&amp;w=800&amp;sz=60&amp;hl=en&amp;start=13&amp;tbnid=05oru6HkfRYl0M:&amp;tbnh=107&amp;tbnw=143&amp;prev=/images%3Fq%3Dsharks%26gbv%3D2%26hl%3Den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sharkswitlaserspewpew.com/shark1.jpg&amp;imgrefurl=http://www.sharkswitlaserspewpew.com/&amp;h=621&amp;w=784&amp;sz=119&amp;hl=en&amp;start=19&amp;tbnid=1r3KlnJ0r7LA7M:&amp;tbnh=113&amp;tbnw=143&amp;prev=/images%3Fq%3Dsharks%26gbv%3D2%26hl%3Den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oceana.org/uploads/pics/sharks_02.jpg&amp;imgrefurl=http://community.oceana.org/story/2007/8/8/201042/8712&amp;h=293&amp;w=385&amp;sz=54&amp;hl=en&amp;start=5&amp;tbnid=ZzwaPwd6qY3S9M:&amp;tbnh=94&amp;tbnw=123&amp;prev=/images%3Fq%3Dsharks%26gbv%3D2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clubmarine.com.au/internet/clubmarine.nsf/docs/MG20-6%2520Feature/%24file/shark.jpg&amp;imgrefurl=http://www.clubmarine.com.au/internet/clubmarine.nsf/docs/MG20-6%2BFeature&amp;h=579&amp;w=500&amp;sz=72&amp;hl=en&amp;start=54&amp;tbnid=aEE-bruorwhDjM:&amp;tbnh=134&amp;tbnw=116&amp;prev=/images%3Fq%3Dsharks%26start%3D40%26gbv%3D2%26ndsp%3D20%26hl%3Den%26sa%3DN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tqnyc.org/NYC063163/Shark%2520Jump.jpg&amp;imgrefurl=http://www.tqnyc.org/NYC063163/save%2520me.html&amp;h=281&amp;w=350&amp;sz=15&amp;hl=en&amp;start=67&amp;tbnid=O3vBg_adoRKsdM:&amp;tbnh=96&amp;tbnw=120&amp;prev=/images%3Fq%3Dsharks%26start%3D60%26gbv%3D2%26ndsp%3D20%26hl%3Den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hark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Christ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8195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Arial"/>
              </a:rPr>
              <a:t>Do like sharks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90920" y="1905120"/>
            <a:ext cx="5333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harks like to eat meat except the whale shark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at meat they won’t d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34290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harks protect themselves by using their teeth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 thing wants to try and eat it, it will bit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3124080"/>
            <a:ext cx="38862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en the baby is born its mother leaves it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hark is born it’s on its 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30481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Sharks are good hunters. They can smell underwater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ks are prediters and they eat a 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294000"/>
            <a:ext cx="34290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 hope you learned a lot about sharks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3124080"/>
            <a:ext cx="5638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4:49Z</dcterms:modified>
  <cp:revision>3</cp:revision>
  <dc:subject/>
  <dc:title>Animal Name</dc:title>
</cp:coreProperties>
</file>